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D3A-0D16-4475-9F09-2E4B0C27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9B4-ED6D-4FCC-8D18-1D659EC4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36DD-B1EC-4940-AE8B-2DC908C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5ACAB-108D-4C42-BFF1-B173AA0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9C7AC-C080-41E0-807B-6692BCBE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E7C24-5E13-4E05-AF29-61AB882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4FE65-1F47-463E-B981-C241346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5991-19AF-4714-B40F-9FC97C8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5DB43-CDF9-4AA3-813A-5B3A5C0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7118E-889F-4D2C-8A15-F7573599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40D11-366B-4736-9F20-EE68AD0D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749D7D-147F-4942-90E1-2301AEB9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449-63CB-4C15-A6D5-E3253632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F24B70-91D5-476C-9B1C-1E49A68A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1E444B-0F6B-46EA-8C07-C340EB5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3E5017-4B85-4FCE-A26D-4BEBC55B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59B463-F5A1-443F-94AF-2D9B3D6C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72E272-8C50-4C99-AC91-39BCB549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B0A4B1-0372-46BA-B2CC-30FC6DC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62BA21-F2B1-4FE3-8EAA-7C8D6C08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7B6792-B2A9-47A0-8F34-ED52B52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9CBB81-6C7A-4C10-95F7-5EE0C595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1B4171-B281-41F2-8B9B-8A529C1B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DDD-5005-4B68-8AEF-14B2E955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0AD00-4C3B-4FD9-91C4-D506B42C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4F93E-B77F-43E4-B2FC-B58D4315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A6455-D0A9-4BB0-BD86-50C8E62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29BE7-C2BA-4905-B5CC-0B594A65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BA720-8E99-4B1C-8691-72ACC14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97DA8-57BB-40DF-99F4-1822E2D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90E1E-9077-4B10-AF51-18AF35F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05F7-B1CE-422F-B58A-495C3044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AB8E8-E46B-4203-B88A-16FC463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9A29-A584-4ADF-A3CD-7780842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D423-B5C8-4AF5-B2D1-F9B9492C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9588-1258-485C-8175-2649B71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F42F2-70DC-4DAB-A7FE-ED87090A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B4802-BA78-4F8D-8B9F-CDE7DDBE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3F07-DD1B-44B6-A9F1-FC9FB428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EAAA5-296D-40D2-9CB5-7ED403B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1AADC-343C-4490-9349-79293F86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2F9D6-4BDD-4FF2-8530-632A3195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1ED6B-0BAA-491C-AEC2-DEB488FE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BEC81-91DB-428E-81BF-1FA8D741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8374-04AE-469E-8C57-54D6EAC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0595-BD33-4B9A-8928-0DB07277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49FB2-4667-4F5A-BA21-22490EA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995C5-F61F-45EF-8818-F587C4A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13F1B-257E-4A19-ABE6-FC89954C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9B94B-3508-44A0-8AF4-608B7252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CF7F6-A205-4058-8AA9-8DAF76BB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BEDBF2-C4DC-4D8E-B3B3-538BBEBE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75A8A1-640B-4302-9D87-92DE8165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671DA8-3EEB-4570-9DAF-CA3BF178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252FB0-2485-4484-9CAA-372F306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2AA1B7-17AE-4774-A797-38B9616F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F554-CEA9-4FCD-AAED-1C83D327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859B7B-4B71-4362-9B85-13E5FA50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6FFBC2-70F3-4C0B-8D2F-658829D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155A64-CFAB-408C-B5E6-41BAF36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63DF1B-4CB7-4700-BF8C-5261E42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0EFE3C-AA4A-4D1B-A66A-FBE307E7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91236F-C701-4CD4-901F-3F6F10BB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C758B8-B2A6-494F-A95F-2BEF9EBA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391C3-8CC6-423A-970B-3F0CD7A7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5F8FF-707D-4D63-86D2-22ABDF7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16A20-8F7E-405A-A2E7-A76E078E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BCFC-B99E-4680-8488-7B3C7153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A3608-A471-43A9-80B3-081DB04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FD29D-2C57-4BFF-8AD6-66FCE598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1C4FE-5890-4757-AC98-F9A7245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71DD2-EE91-4EC2-8FA8-6B572AC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E0AC6-2DBB-4091-83EA-D60A47A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A8622-8A2C-47CC-8AEF-C1C71B1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E7256-4C61-4F69-B7BE-F5510FBE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5479F-6979-468A-A64D-30FE6E84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E1D8C-169D-4809-8985-DAEFFB8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47E58-56C3-4E5E-B919-4C4EEBF4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154-F588-4610-8A12-96F2F375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AAA8B-A492-43B7-8994-151AE6D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47007-F077-417A-A263-7580104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DF03D-491A-4EF7-BB99-122F6FC9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2C0F6-F4B9-4505-B4D0-0221342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B3FCF-F5DB-462E-8906-6817090C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8156E-9690-4098-96E6-9DD10AB6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212E1-63F3-4800-B032-E7CC008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EC4A1-CE10-461C-8399-BDF8D97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92DB2-8256-4856-9B35-238333E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F0D34-25E1-4925-9068-713D0000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0A70-1B11-48E5-8740-C513E73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898FD-9062-4A76-A895-06813B2D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4A426-552C-42D5-B964-F8841CF9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5177C-06A9-4F37-AA76-741B3CF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3A875-4884-4868-91D6-7D2A982E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FAEA3-5E10-4C9E-B221-C5B0858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2F54BA-6E77-487F-B496-3008F8ED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D65C4-2F0D-4A9F-986F-94E126D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9C24F-B768-43FB-864D-C4FCD9B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5A19B-2212-4366-AE88-4408A69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42190-5C83-4B3E-8FB1-EDE90F85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D319-09D8-4E03-9159-CD1B7B3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69F36-7D42-4DD6-A114-2DC3537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8B24F-CC1B-49D4-80A1-D7C9A28C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5506F-95D8-40EA-9BB0-E4BAC3CD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CB096-CF09-4F09-A218-6C0AFE67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D79F5-0236-4481-93E8-C281424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7E26F-0DAF-4D23-A502-09645D8E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40C32-8D04-420D-93C9-D9DFD86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F3083-F844-4D1E-A9C7-CE6BA5D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3AEF0-9D7D-40D2-90DD-AFB02E2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0588C-C286-4ADF-9451-9DDCD0C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1A3-EAEE-4675-B885-6795B4E8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D4D6-7F5C-4E42-8D3C-050FBA0F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D8D01-5D01-4E96-919C-EB3C69B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16423-CE3A-486D-A899-7A6F8407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E7954-F7EA-4559-B80D-37DEEDB4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62A90-C1E4-4DD5-ACCA-985993D3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67D93-AA79-4604-AC14-D97CF9E1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E25E6-8EBF-45DA-B234-AAD0875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3186C-2D43-40BD-A092-86C8B6C5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27C82-D5C1-48E0-A5C8-C2A4063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3FB46-BD7C-4BCA-8937-189521DC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BF2EF-2CCD-4386-A5DB-888F5D4A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4F30-41E2-41D3-8AC1-4321F04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99A40-61E3-4B75-8E51-F5BCAE07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33912-412B-4450-A62E-43C5237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60742-20E6-4814-AF2D-86D7076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94414-9C1C-4A3F-9DB6-1436F63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59C9F-B314-4352-969F-EBDC1F7E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B1F96-562F-42DA-93DE-D03AA062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ADB95-134E-4F35-A4E0-E6A7569A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8D8-DFB6-44E0-9039-E328EC13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C61E-08B6-4C86-A1EA-01E2A0FF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EAF6-83E6-47C2-BFB5-17FA3C2F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0FEB-0998-4B97-9107-41406198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0239-5149-4288-8992-1EA449B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4D81-69C4-4118-ACC6-FD24F7F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B808-BF92-4238-84B2-105EE31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D20A-6ECD-4F4F-AF81-C50D9981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A17-F919-425A-B6F2-E21D0758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BA8A-1057-4BD2-BC3C-833CAC93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382A-5ED4-47B2-AAE7-4B4A0DA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6278-41A5-4820-B1DD-1D2F0CD6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9A65-5372-4913-A9A0-4B6C5CF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73EA-85F3-481D-B278-86F3DA8D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CC3D-A587-4336-B057-EAAF453D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DA84-28B5-474F-A7B5-3FC22591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17F7-7E57-4F1A-AA2C-C9D47AE9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74D9-A057-408C-94B6-5F0C9428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934D-0102-49EF-B6FF-DC15B70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C4B-472E-432D-9BEA-4E6D654A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97BA-7438-4F36-8DA0-EB3DD03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46CA-C399-4493-A96F-6630DE1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0223-670E-4066-9DE3-470084A4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85E6-EAD3-442E-9324-99518A3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778E-05FA-4C2D-B038-B57E9E23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88CE-B03F-4E8F-9DAF-E6A6074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0C92-3A3B-4A4E-AA2E-FEE23FD5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C31A-3D58-48DD-8C03-F2DD50C8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8A31-BDE7-46FF-BD65-A9ED29DE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1D46-CFEE-49ED-AD8A-331B4048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245-FD9F-4212-95B1-D8350847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3483-7DEE-490D-9202-BDBF8CD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1ACC-1B65-4B08-AA60-995C5F1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C757-3279-4BE5-8D84-4465A9F6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6FBBB-C408-4634-96ED-3354CEC6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7D19-BC7D-466E-A4D9-47D1AE1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9378-89E9-4023-A1DB-6EEC91F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A1F6-F369-4877-83A0-50AEBF9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623E-FEE9-410E-A330-01ED4D2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3D4ED-562D-4886-A892-5AA17E32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1DCB-44A8-4927-A52D-1008F160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4FF-C0BA-4970-8FFB-38A1C4E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3170-5471-46CE-A495-F6DF612A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5DDB-3768-4758-8DB3-09519195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E057-1D6B-4781-B3C6-F4BA7367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A2D2-17FF-416A-A46E-F720197D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7DD56-2C85-45B3-8602-88FF8724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34CE-C685-45B4-ADD4-CF69609C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3B6B-FA74-4CCA-A9AA-486E00BB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7437-53BC-4AF9-ADEE-3F0461F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F3220-98C2-4E52-A4D5-5F53E7A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A3F6A-5426-4CBE-A715-BABD025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C13-AA18-4F36-9EFD-F63922F3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2977-3FBD-4098-AEF5-D57F0CF2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2739-0B88-4C07-9D31-57F28DFC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AD8E-A728-46EE-B0B5-104FA8DD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D198-EBAA-46A9-850E-54FD35D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2E8FB-9DD6-44FF-B4B9-9EAA5984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AC783-671C-4F64-B4F0-E71C1DA2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2130-B687-413B-A64C-AB94431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36AB-3A72-4823-B926-24ED3681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1F82-9E81-4B45-AAAB-A06987AD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F801-8C67-4CA3-AD6A-3BF049B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ED4-652C-4208-982B-D29C758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BFC9B-401B-4266-ADAA-358D573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9AD1D-F05C-4E16-9A44-9147134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688F-D544-4F45-9BFE-7CE6A9A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BAB8-7589-48F4-A6F2-460CBEAB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54E1C-DC00-4E76-99A7-4C77BB25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7F21E-2CEB-409E-9CAA-D6F3DAC3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27B5-C19E-4D54-879F-78366D0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882A-6868-4F4B-BC4D-03EE9EA9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0A938-E6AA-491C-945B-938CEC4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F855-6F3F-4FF4-81FE-76AB8A60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863-AC15-4BB4-A546-0D238D1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2A87-DCE0-49CB-8DD1-EFFA1591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A15CD-AA4C-4CC4-99A6-7A3B842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AD03E-A83F-454D-A2BD-9D4FA1CA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FDD03-2CF1-4F72-94B1-DD7AFDF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76A8-C889-4D57-BF5A-6EEEE723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F5A4-8662-481B-AD99-55E3577F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6EA1-71A8-40D1-9D86-304AE47A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2A661-3CBD-4B4B-847E-EE4AF67D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4E2B-0FA2-4D7C-AC59-0BE3D7AB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568CC-6064-44B6-9222-92775CB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26FF-0466-4F67-AAA3-B1BF75F1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5AB-A832-4743-B5F7-166D6FF3D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7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7E61-CC67-4E47-B9D9-E8BC5F37E8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7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042-54FA-4E54-82D2-C9B047EE2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35A-24DA-4EC8-863B-B413AB5953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E35-F2A8-406B-9947-D06D85425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1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1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EFC-5FB8-442E-9AAB-BB7674A94F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6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7" name="PlaceHolder 1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sldNum" idx="4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ED19-9065-458D-A8F8-0FA7D1CD72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0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6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7F7-A9F2-4513-A266-C69408863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5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625-D620-47C7-9160-48D4D8BAB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EDDA-ADA1-4851-BFA3-1095C0BAC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8079-D9FE-492A-8FF5-C616B0C9AC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A9F0-5BC4-4CD0-98A5-7428541D64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5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B090-EED7-4C58-99E7-415561360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BC76-60F7-455E-A566-785D25B5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48D-1584-4A14-973C-A03EB65E17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1E65-D781-45FB-A0EE-77C80A9DD1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1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1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1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137-EC6D-4E90-BBED-7BB29A21A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sse.ro/cms/rw/pages/index.ro.do" TargetMode="External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" TargetMode="External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rketingcen.wikispaces.com/" TargetMode="External"/><Relationship Id="rId2" Type="http://schemas.openxmlformats.org/officeDocument/2006/relationships/hyperlink" Target="http://mkrb.21classes.com/" TargetMode="External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Aplicatie_elev/aplicatie_elev_siteweb.pdf" TargetMode="External"/><Relationship Id="rId2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Imagini_sunete/Drepturi_de%20autor_autorizatii/Ce%20este%20dreptul%20de%20autor.doc" TargetMode="External"/><Relationship Id="rId2" Type="http://schemas.openxmlformats.org/officeDocument/2006/relationships/hyperlink" Target="file:///../Imagini_sunete/Drepturi_de%20autor_autorizatii/Ce%20este%20dreptul%20de%20autor.doc" TargetMode="External"/><Relationship Id="rId3" Type="http://schemas.openxmlformats.org/officeDocument/2006/relationships/hyperlink" Target="file:///Imagini_sunete/Drepturi%20de%20autor_autorizatii/haosul_dreptului_de_autor.pdf" TargetMode="External"/><Relationship Id="rId4" Type="http://schemas.openxmlformats.org/officeDocument/2006/relationships/hyperlink" Target="file:///Imagini_sunete/Drepturi%20de%20autor_autorizatii/haosul_dreptului_de_autor.pdf" TargetMode="External"/><Relationship Id="rId5" Type="http://schemas.openxmlformats.org/officeDocument/2006/relationships/hyperlink" Target="file:///Imagini_sunete/Drepturi%20de%20autor_autorizatii/haosul_dreptului_de_autor.pdf" TargetMode="External"/><Relationship Id="rId6" Type="http://schemas.openxmlformats.org/officeDocument/2006/relationships/hyperlink" Target="file:///Imagini_sunete/Drepturi%20de%20autor_autorizatii/haosul_dreptului_de_autor.pdf" TargetMode="External"/><Relationship Id="rId7" Type="http://schemas.openxmlformats.org/officeDocument/2006/relationships/hyperlink" Target="file:///Imagini_sunete/Drepturi%20de%20autor_autorizatii/haosul_dreptului_de_autor.pdf" TargetMode="External"/><Relationship Id="rId8" Type="http://schemas.openxmlformats.org/officeDocument/2006/relationships/hyperlink" Target="file:///Imagini_sunete/Drepturi%20de%20autor_autorizatii/haosul_dreptului_de_autor.pdf" TargetMode="External"/><Relationship Id="rId9" Type="http://schemas.openxmlformats.org/officeDocument/2006/relationships/hyperlink" Target="file:///Imagini_sunete/Drepturi%20de%20autor_autorizatii/haosul_dreptului_de_autor.pdf" TargetMode="External"/><Relationship Id="rId10" Type="http://schemas.openxmlformats.org/officeDocument/2006/relationships/hyperlink" Target="file:///Imagini_sunete/Drepturi%20de%20autor_autorizatii/haosul_dreptului_de_autor.pdf" TargetMode="External"/><Relationship Id="rId11" Type="http://schemas.openxmlformats.org/officeDocument/2006/relationships/hyperlink" Target="file:///Imagini_sunete/Drepturi%20de%20autor_autorizatii/haosul_dreptului_de_autor.pdf" TargetMode="External"/><Relationship Id="rId12" Type="http://schemas.openxmlformats.org/officeDocument/2006/relationships/hyperlink" Target="file:///Imagini_sunete/Drepturi%20de%20autor_autorizatii/RESURSE%20PENTRU%20DREPTURILE%20DE%20AUTOR.doc" TargetMode="External"/><Relationship Id="rId13" Type="http://schemas.openxmlformats.org/officeDocument/2006/relationships/hyperlink" Target="file:///../Imagini_sunete/Drepturi_de%20autor_autorizatii/chestionar_drepturi_autor.doc" TargetMode="External"/><Relationship Id="rId14" Type="http://schemas.openxmlformats.org/officeDocument/2006/relationships/hyperlink" Target="file:///../Imagini_sunete/Drepturi_de%20autor_autorizatii/chestionar_drepturi_autor.doc" TargetMode="External"/><Relationship Id="rId15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ffcc00"/>
                </a:solidFill>
                <a:latin typeface="Garamond"/>
              </a:rPr>
              <a:t>Proiec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G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ă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sesc destina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ţ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ia turistic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ă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 ideal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ă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 pentru vacan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ţ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cc66"/>
                </a:solidFill>
                <a:latin typeface="Arial"/>
              </a:rPr>
              <a:t>Eval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valuare iniţial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valuare formativ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valuare sumativ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Bibliograf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Valentina Capotă, Florica Popa, Cristina Ghinescu</a:t>
            </a:r>
            <a:r>
              <a:rPr b="1" i="1" lang="ro-RO" sz="1600" spc="-1" strike="noStrike">
                <a:solidFill>
                  <a:srgbClr val="ffffff"/>
                </a:solidFill>
                <a:latin typeface="Garamond"/>
              </a:rPr>
              <a:t>, Marketingul afacerii</a:t>
            </a: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– manual clasa a XI – a Ruta directă, clasa a XII – a Ruta progresivă, Editura Akademos Art, 2006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Suzana Ilie, </a:t>
            </a:r>
            <a:r>
              <a:rPr b="1" i="1" lang="ro-RO" sz="1600" spc="-1" strike="noStrike">
                <a:solidFill>
                  <a:srgbClr val="ffffff"/>
                </a:solidFill>
                <a:latin typeface="Garamond"/>
              </a:rPr>
              <a:t>Marketingul afacerilor</a:t>
            </a: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– manual clasa a XI – a, Editura Oscar Print, 2006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Nicolae Paina,</a:t>
            </a: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Pop, Marius D</a:t>
            </a: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., </a:t>
            </a:r>
            <a:r>
              <a:rPr b="1" i="1" lang="fr-FR" sz="1600" spc="-1" strike="noStrike">
                <a:solidFill>
                  <a:srgbClr val="ffffff"/>
                </a:solidFill>
                <a:latin typeface="Garamond"/>
              </a:rPr>
              <a:t>Cercetări de marketing</a:t>
            </a: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, Cluj-Napoca, Presa Universitară Clujeană, 1997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Kotler, Philip, 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Managementul marketingului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Bucureşti, Editura Teora, Bucureşti, 1997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Kotler, Philip, </a:t>
            </a:r>
            <a:r>
              <a:rPr b="1" i="1" lang="fr-FR" sz="1600" spc="-1" strike="noStrike">
                <a:solidFill>
                  <a:srgbClr val="ffffff"/>
                </a:solidFill>
                <a:latin typeface="Garamond"/>
              </a:rPr>
              <a:t>Principiile marketingului. </a:t>
            </a: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Bucureşti, Editura Teora, 1998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1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insse.ro/cms/rw/pages/index.ro.d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marketingpower.com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marketingpower.com/content1051.ph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markmedia.ro/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admaker.ro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wik.is</a:t>
            </a: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Vă las plăcerea să căutaţi...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Garamond"/>
              </a:rPr>
              <a:t>Diverse site-uri în domeniu pe Interne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Proiect</a:t>
            </a:r>
            <a:r>
              <a:rPr b="0" i="1" lang="ro-RO" sz="4400" spc="-1" strike="noStrike">
                <a:solidFill>
                  <a:srgbClr val="ffcc00"/>
                </a:solidFill>
                <a:latin typeface="Arial"/>
              </a:rPr>
              <a:t> 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isciplina </a:t>
            </a:r>
            <a:r>
              <a:rPr b="0" i="1" lang="ro-RO" sz="3200" spc="-1" strike="noStrike">
                <a:solidFill>
                  <a:srgbClr val="ff0066"/>
                </a:solidFill>
                <a:latin typeface="Arial"/>
              </a:rPr>
              <a:t>Marketingul aface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lasa 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a XI-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itatea de învăţare: </a:t>
            </a:r>
            <a:r>
              <a:rPr b="0" i="1" lang="ro-RO" sz="3200" spc="-1" strike="noStrike">
                <a:solidFill>
                  <a:srgbClr val="ff0066"/>
                </a:solidFill>
                <a:latin typeface="Arial"/>
              </a:rPr>
              <a:t>Cercetarea de marketing şi nevoile clienţi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rofesor: </a:t>
            </a:r>
            <a:r>
              <a:rPr b="0" i="1" lang="ro-RO" sz="2400" spc="-1" strike="noStrike">
                <a:solidFill>
                  <a:srgbClr val="ffcc00"/>
                </a:solidFill>
                <a:latin typeface="Arial"/>
              </a:rPr>
              <a:t>Ramona Bătina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Unitatea şcolară: </a:t>
            </a:r>
            <a:r>
              <a:rPr b="0" i="1" lang="ro-RO" sz="2400" spc="-1" strike="noStrike">
                <a:solidFill>
                  <a:srgbClr val="ffcc00"/>
                </a:solidFill>
                <a:latin typeface="Arial"/>
              </a:rPr>
              <a:t>Colegiul “Emil Negruţiu” Tur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66ff99"/>
                </a:solidFill>
                <a:latin typeface="Monotype Corsiva"/>
              </a:rPr>
              <a:t>Avantajele învăţării prin metoda proiectului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metodă care  se poate aplica la diferite arii tematice, la clase diferite şi la mai multe niveluri de studi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implicarea elevilor în roluri active, cum ar fi: rezolvarea de probleme, luarea deciziei, investigare, document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elevii se află în centrul procesului de instrui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oiectul se axează pe obiective operaţionale aliniate competenţelor specifice sau obiectivelor de referinţ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oiectul implică metode de evaluare multiple şi contin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sarcinile de lucru şi activităţile corelate se desfăşoară într-o anumită perioadă de ti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conexiunea cu lumea real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elevii îşi demonstrează cunoştinţele şi competenţele prin intermediul produselor care sunt publicate, prezentate sau afiş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ocesul de învăţare este îmbunătăţit prin folosirea tehnologie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strategiile variate de instruire sprijină diverse stiluri de învăţ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dezvoltarea competenţelor pentru lumea reală, corespunzătoare secolului XX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cc00"/>
                </a:solidFill>
                <a:latin typeface="Arial"/>
              </a:rPr>
              <a:t>Competenţe necesare secolului XX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ompetenţe de comunicare - 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Înţelegerea şi realizarea unei comunicări eficiente verbale, scrise şi multimedia, într-o varietate de forme şi context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reativitate şi curiozitate intelectuală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Dezvoltarea, implementarea şi comunicarea ideilor noi altor persoane; deschidere şi receptivitate la nou, perspective variat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Gândire critică şi gândire sistemică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Exersarea gândirii în ce priveşte înţelegerea şi realizarea unor alegeri complexe; înţelegerea conexiunilor dintre sistem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Informaţii şi abilităţi media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Analizarea, accesarea, administrarea, integrarea, evaluarea, şi crearea de informaţii în diverse forme şi medi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Responsabilitate şi capacitate de adaptare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Exersarea responsabilităţii personale şi a flexibilităţii în contexte legate de propria persoană, loc de muncă şi comunitate; stabilirea şi atingerea unor standarde şi ţeluri ridicate  pentru sine şi pentru ceilalţi; tolerarea ambiguităţi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apacităţi de colaborare şi interpersonale 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Demonstrarea capacităţilor de lucru în echipă şi de conducere; adaptarea la diverse roluri şi responsabilităţi; colaborarea productivă cu ceilalţi; conduită empatică; respectarea altor puncte de veder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Identificarea, formularea şi soluţionarea problemelor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capacitatea de a depista, formula, analiza şi rezolva problem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Auto-formare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Monitorizarea propriilor nevoi de înţelegere şi învăţare; localizarea resurselor corespunzătoare; transferul cunoştinţelor dintr-un domeniu în altu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Responsabilitate socială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Acţionarea în mod responsabil, ţinând cont de interesele comunităţii; demonstrarea unui comportament etic în contexte legate de propria persoană, loc de muncă şi comunita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Rectangle 2"/>
          <p:cNvSpPr/>
          <p:nvPr/>
        </p:nvSpPr>
        <p:spPr>
          <a:xfrm>
            <a:off x="1523880" y="5932800"/>
            <a:ext cx="6400800" cy="4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100" spc="-1" strike="noStrike" baseline="30000">
                <a:solidFill>
                  <a:srgbClr val="003b76"/>
                </a:solidFill>
                <a:latin typeface="Verdana"/>
                <a:ea typeface="Times New Roman"/>
              </a:rPr>
              <a:t>1</a:t>
            </a:r>
            <a:r>
              <a:rPr b="1" lang="ro-RO" sz="1100" spc="-1" strike="noStrike">
                <a:solidFill>
                  <a:srgbClr val="003b76"/>
                </a:solidFill>
                <a:latin typeface="Verdana"/>
                <a:ea typeface="Times New Roman"/>
              </a:rPr>
              <a:t>Sursă:</a:t>
            </a:r>
            <a:r>
              <a:rPr b="0" lang="ro-RO" sz="1100" spc="-1" strike="noStrike">
                <a:solidFill>
                  <a:srgbClr val="003b76"/>
                </a:solidFill>
                <a:latin typeface="Verdana"/>
                <a:ea typeface="Times New Roman"/>
              </a:rPr>
              <a:t> Parteneriat pentru competenţele secolului XXI (</a:t>
            </a:r>
            <a:r>
              <a:rPr b="0" lang="ro-RO" sz="11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.21stcenturyskills.org</a:t>
            </a:r>
            <a:r>
              <a:rPr b="0" lang="ro-RO" sz="1100" spc="-1" strike="noStrike">
                <a:solidFill>
                  <a:srgbClr val="003b76"/>
                </a:solidFill>
                <a:latin typeface="Verdana"/>
                <a:ea typeface="Times New Roman"/>
              </a:rPr>
              <a:t>). Utilizat cu permisiun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99"/>
                </a:solidFill>
                <a:latin typeface="Arial"/>
              </a:rPr>
              <a:t>Rezultate aştept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levii trebuie să fie capabi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identifice minim 3 surse de informare primare şi secundare legate de tema de  cercet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investigheze măcar o sursă primară si secundară de informare pentru a selecta informaţii utile temei de cercet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analizeze şi să selecteze din metodele de cercetare  cunoscute  – minim 2 -  cele mai eficient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elaboreze un chestionar pentru o cercetare de marketing propusă care să cuprindă cel putin 15 întrebări, de cel puţin 3 tipur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analizeze  şi să interpreteze datele/ opiniile obţinute prin : grafice, diagrame, scale, utilizând  Microsoft Exce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sintetizeze şi interpreteze  datele, informaţiile şi graficele prin care sunt exprimate opiniile elevilor utilizând resursele electronice neces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elaboreze concluzii şi soluţii la problema identificată şi cercetată folosind tehnologia I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Întrebările cheie ale curriculumulu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16" name="Dreptunghi rotunjit 2"/>
          <p:cNvGrpSpPr/>
          <p:nvPr/>
        </p:nvGrpSpPr>
        <p:grpSpPr>
          <a:xfrm>
            <a:off x="395280" y="1773360"/>
            <a:ext cx="2247840" cy="884160"/>
            <a:chOff x="395280" y="1773360"/>
            <a:chExt cx="2247840" cy="884160"/>
          </a:xfrm>
        </p:grpSpPr>
        <p:pic>
          <p:nvPicPr>
            <p:cNvPr id="1117" name="Dreptunghi rotunjit 2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2247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488880" y="1843200"/>
              <a:ext cx="20606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66"/>
                  </a:solidFill>
                  <a:latin typeface="Calibri"/>
                </a:rPr>
                <a:t>Întrebarea esenţial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9" name="Dreptunghi rotunjit 4"/>
          <p:cNvGrpSpPr/>
          <p:nvPr/>
        </p:nvGrpSpPr>
        <p:grpSpPr>
          <a:xfrm>
            <a:off x="250920" y="3068640"/>
            <a:ext cx="2322360" cy="1023840"/>
            <a:chOff x="250920" y="3068640"/>
            <a:chExt cx="2322360" cy="1023840"/>
          </a:xfrm>
        </p:grpSpPr>
        <p:pic>
          <p:nvPicPr>
            <p:cNvPr id="1120" name="Dreptunghi rotunjit 4" descr=""/>
            <p:cNvPicPr/>
            <p:nvPr/>
          </p:nvPicPr>
          <p:blipFill>
            <a:blip r:embed="rId2"/>
            <a:stretch/>
          </p:blipFill>
          <p:spPr>
            <a:xfrm>
              <a:off x="250920" y="3068640"/>
              <a:ext cx="23223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349200" y="3206520"/>
              <a:ext cx="212688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66"/>
                  </a:solidFill>
                  <a:latin typeface="Calibri"/>
                </a:rPr>
                <a:t>Întrebările unitatăţii de învăţ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2" name="Dreptunghi rotunjit 5"/>
          <p:cNvGrpSpPr/>
          <p:nvPr/>
        </p:nvGrpSpPr>
        <p:grpSpPr>
          <a:xfrm>
            <a:off x="250920" y="4941720"/>
            <a:ext cx="2247840" cy="884160"/>
            <a:chOff x="250920" y="4941720"/>
            <a:chExt cx="2247840" cy="884160"/>
          </a:xfrm>
        </p:grpSpPr>
        <p:pic>
          <p:nvPicPr>
            <p:cNvPr id="1123" name="Dreptunghi rotunjit 5" descr=""/>
            <p:cNvPicPr/>
            <p:nvPr/>
          </p:nvPicPr>
          <p:blipFill>
            <a:blip r:embed="rId3"/>
            <a:stretch/>
          </p:blipFill>
          <p:spPr>
            <a:xfrm>
              <a:off x="250920" y="4941720"/>
              <a:ext cx="2247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344520" y="5014800"/>
              <a:ext cx="20606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66"/>
                  </a:solidFill>
                  <a:latin typeface="Calibri"/>
                </a:rPr>
                <a:t>Întrebări de conţin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Rectangle 1"/>
          <p:cNvGrpSpPr/>
          <p:nvPr/>
        </p:nvGrpSpPr>
        <p:grpSpPr>
          <a:xfrm>
            <a:off x="3419640" y="1773360"/>
            <a:ext cx="4741560" cy="627120"/>
            <a:chOff x="3419640" y="1773360"/>
            <a:chExt cx="4741560" cy="627120"/>
          </a:xfrm>
        </p:grpSpPr>
        <p:pic>
          <p:nvPicPr>
            <p:cNvPr id="1126" name="Rectangle 1" descr=""/>
            <p:cNvPicPr/>
            <p:nvPr/>
          </p:nvPicPr>
          <p:blipFill>
            <a:blip r:embed="rId4"/>
            <a:stretch/>
          </p:blipFill>
          <p:spPr>
            <a:xfrm>
              <a:off x="3419640" y="1773360"/>
              <a:ext cx="47415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492360" y="1883880"/>
              <a:ext cx="45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88dc"/>
                  </a:solidFill>
                  <a:latin typeface="Tahoma"/>
                </a:rPr>
                <a:t>De ce merg oamenii în vacanţă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128" name="Conector drept cu săgeată 9"/>
          <p:cNvCxnSpPr/>
          <p:nvPr/>
        </p:nvCxnSpPr>
        <p:spPr>
          <a:xfrm flipV="1">
            <a:off x="2627280" y="2059920"/>
            <a:ext cx="838800" cy="766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  <p:grpSp>
        <p:nvGrpSpPr>
          <p:cNvPr id="1129" name="Rectangle 3"/>
          <p:cNvGrpSpPr/>
          <p:nvPr/>
        </p:nvGrpSpPr>
        <p:grpSpPr>
          <a:xfrm>
            <a:off x="3265560" y="4292640"/>
            <a:ext cx="5878080" cy="2206440"/>
            <a:chOff x="3265560" y="4292640"/>
            <a:chExt cx="5878080" cy="2206440"/>
          </a:xfrm>
        </p:grpSpPr>
        <p:pic>
          <p:nvPicPr>
            <p:cNvPr id="1130" name="Rectangle 3" descr=""/>
            <p:cNvPicPr/>
            <p:nvPr/>
          </p:nvPicPr>
          <p:blipFill>
            <a:blip r:embed="rId5"/>
            <a:stretch/>
          </p:blipFill>
          <p:spPr>
            <a:xfrm>
              <a:off x="3265560" y="4292640"/>
              <a:ext cx="587808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3344400" y="4480560"/>
              <a:ext cx="56955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e sunt cercetările de marketing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um stabilesc obiectivele unei cercetari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are sunt fazele şi etapele unei cercetări de marketing 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e metode pot fi folosite pentru o cercetare a pieţei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are este metodologia de elaborare a unui chestionar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um putem stabili mărimea unui eşantion şi care sunt metodele de extragere a acestuia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um realizez raportul final al unei cercetari de marketing</a:t>
              </a:r>
              <a:r>
                <a:rPr b="1" lang="ro-RO" sz="1400" spc="-1" strike="noStrike">
                  <a:solidFill>
                    <a:srgbClr val="afe1ff"/>
                  </a:solidFill>
                  <a:latin typeface="Tahoma"/>
                </a:rPr>
                <a:t>?</a:t>
              </a:r>
              <a:r>
                <a:rPr b="0" lang="en-US" sz="1400" spc="-1" strike="noStrike">
                  <a:solidFill>
                    <a:srgbClr val="afe1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2" name="Rectangle 3"/>
          <p:cNvGrpSpPr/>
          <p:nvPr/>
        </p:nvGrpSpPr>
        <p:grpSpPr>
          <a:xfrm>
            <a:off x="3265560" y="2924280"/>
            <a:ext cx="5878080" cy="1125360"/>
            <a:chOff x="3265560" y="2924280"/>
            <a:chExt cx="5878080" cy="1125360"/>
          </a:xfrm>
        </p:grpSpPr>
        <p:pic>
          <p:nvPicPr>
            <p:cNvPr id="1133" name="Rectangle 3" descr=""/>
            <p:cNvPicPr/>
            <p:nvPr/>
          </p:nvPicPr>
          <p:blipFill>
            <a:blip r:embed="rId6"/>
            <a:stretch/>
          </p:blipFill>
          <p:spPr>
            <a:xfrm>
              <a:off x="3265560" y="2924280"/>
              <a:ext cx="587808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3344400" y="3021840"/>
              <a:ext cx="569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88dc"/>
                  </a:solidFill>
                  <a:latin typeface="Tahoma"/>
                </a:rPr>
                <a:t>Cum am putea realiza o cercetare a intereselor elevilor din şcoala noastră cu privire la destinaţia turistică preferată pentru vacanţă</a:t>
              </a:r>
              <a:r>
                <a:rPr b="1" lang="ro-RO" sz="1800" spc="-1" strike="noStrike">
                  <a:solidFill>
                    <a:srgbClr val="afe1ff"/>
                  </a:solidFill>
                  <a:latin typeface="Tahoma"/>
                </a:rPr>
                <a:t>?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135" name="Conector drept cu săgeată 10"/>
          <p:cNvCxnSpPr/>
          <p:nvPr/>
        </p:nvCxnSpPr>
        <p:spPr>
          <a:xfrm>
            <a:off x="2556000" y="3500280"/>
            <a:ext cx="762480" cy="766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1136" name="Conector drept cu săgeată 9"/>
          <p:cNvCxnSpPr/>
          <p:nvPr/>
        </p:nvCxnSpPr>
        <p:spPr>
          <a:xfrm flipV="1">
            <a:off x="2484000" y="5157720"/>
            <a:ext cx="839160" cy="766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Finalitatea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IECTULUI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lizarea portofoliului pentru unitatea de învăţ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rezentarea proiectului realiz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lizarea unui site wiki</a:t>
            </a: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ro-RO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marketingcen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lizarea unui blog</a:t>
            </a: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ro-RO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mkrb.21class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88dc"/>
                </a:solidFill>
                <a:latin typeface="Arial"/>
              </a:rPr>
              <a:t>Conţinutul portofolilul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planul unităţii de învăţ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planul de implementare al unităţii de învăţ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exemplu din perspectiva elevul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drepturi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valu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bibliograf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Drepturi de aut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Ce este dreptul de autor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Ghid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educa</a:t>
            </a: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ţ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ional de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utili</a:t>
            </a: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z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are</a:t>
            </a: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 a dreptului de au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Resurse pentru drepturile de autor; utilizarea materialelor referitoare la drepturile de au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Test – Legea dreptului de autor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5:23:17Z</dcterms:created>
  <dc:creator>ramona</dc:creator>
  <dc:description/>
  <dc:language>en-US</dc:language>
  <cp:lastModifiedBy>ramona</cp:lastModifiedBy>
  <dcterms:modified xsi:type="dcterms:W3CDTF">2010-06-12T18:09:28Z</dcterms:modified>
  <cp:revision>11</cp:revision>
  <dc:subject/>
  <dc:title>Proi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